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17.jpeg" ContentType="image/jpeg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843BE-A7A4-4D79-A218-F11AEF1143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55D97-C1BD-45AE-B2A5-F3547A8E0C8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905BC-3481-48F2-AF7C-B6EEDD4FAEE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7804B-170C-4FE3-B6E6-6F7C45B0BAF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EEA-8A62-4BB9-AF24-ACECF4F5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9DA-1BE4-4D0B-94A7-348D1B1B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6D840-3C95-40E5-A0D6-AF39CA3D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05880-F7EB-4AAE-86ED-8E4A0920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E6E19-0419-4222-BBAA-BE17926E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24E66-D875-4043-8B1C-3F45723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8C876-703D-47D0-811B-8D49071B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FDF52-AFE8-49A4-A3DE-A926463D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4092F-9963-493F-9ED3-CBBD5CE4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4837E-3571-4A15-BE4D-4AEF502B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3F9F4-82FF-4E37-918F-E2F4249D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85CF7-6EED-47F9-9021-A6F04241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6C5-F6F8-4CB9-94DF-663B9CEE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A9D69-B90A-49A8-922C-45A3D538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4C712-8C09-4EA3-B428-0680E3F3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1F786-190C-438A-AEB4-CA7D042F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A5FC-8F52-4FB6-BCA9-9305FE1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EAA0E-E68B-41E7-A195-9975A0B5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A6005-B706-4E0B-99C9-DD3F4141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CD306-4FFF-4571-9ACF-519B3BBA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ED4C0-74B2-4C2F-8FEC-B27666B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D2944-81B5-4ED9-A6ED-712F3F7A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62DFE-7AE7-4C47-A3C1-26FB8CF1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F0C-9DA7-42A2-8543-CF37936C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B7DED-534A-4C46-A89D-E76E4A21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82DD3-BFBF-4D9F-A4AC-5570FEF6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F9ABE-1F30-4F5C-81D8-0AB87B4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FABE0-27FE-4291-8011-BADE4E43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D0D5A-EDCF-4C7C-91AA-611C363B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1E7F9-7616-45C0-973B-B2BDAB84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B1E53-EDA2-4E2F-9F83-44DDBA99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690CE-33C2-468E-8D3C-5A5CEA78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58B27-A92B-484D-859D-8D33B36B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F225F-A8BE-43FB-80D3-73E7024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796E-097F-4851-904F-D2FC5938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6D338-8EA1-4131-BC86-A7F5D652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A3CB1-7378-4B5B-8CDB-9741ABE8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5A83E-353D-40E0-8E0A-BD529C20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243ED-82C7-436F-8E8A-74DBD66D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344D8-186D-4039-93BF-EDB27EDE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9FE24-3214-4B1A-B05D-BA945248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51564-3D00-468E-A0DF-A5F95E2D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581C8-EAF2-4720-9A8D-A27646DC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34C97-AE83-48EF-9C0E-2CDCB287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2140D-7D5B-4F1A-AED1-95B6F4BD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1CC2-23B4-48DC-98C5-81F0D7AB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28E25-9102-4A11-93BE-E8E67580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9E6EA-01ED-4315-A09D-A786FD82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B0ED2-028B-406C-AB86-C5B0444B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0AD83-8BD7-496B-9846-F2BADC0C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4A629-BB2C-4F06-BDA1-0830DBC0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4FAAD-31E7-429F-96EF-AC0EBBFC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621E4-1285-43ED-9F14-DE77BA4E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C822E-7EAC-428E-A7D4-91B94F2A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5845D-4499-40D8-AF05-A53FCA8C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34D81-8E96-450E-A9B2-9D156FF8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200-0510-486E-B356-B99A3AE4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BF260-D81F-46BC-9745-E4770A9F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BDAAA-8F82-4374-A143-8E4AC5B6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975BC-348E-441A-8A96-5FA50EA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C3FD1-9638-4B04-8269-68028DE6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E8DCB-BC34-4E24-A8E2-0B0FDC27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FEB02-9772-4146-AC9C-FC498B9C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88FD9-BCAB-4041-AC7A-425D217A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6CA34-A08C-424A-A96F-F2691A45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2B59C-601F-47AB-B32D-BF030DB2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A72C0-F1A9-40AA-80EF-2A0552EE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05E2-DF76-4138-B877-E3DF0AD9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BAD56-B78D-45B5-90A9-1F96BE6E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72A05-426A-4F7D-8B11-92261F38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81CF4-E9DB-4385-AA36-E76FA4A6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627FF-6E5E-4A0D-A68C-7654708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53E17-460D-400A-B5E0-87CEF14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1120B-315A-4FDA-90D1-B434E631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311F0-E7AF-4E68-8157-8DF9B762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4F3F2-ABE2-4A83-8FB9-17354DA7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001FC-DB03-4D9C-B5D0-A34DFE13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D9D04-2A9B-4902-ADDE-03437998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08D6-AE66-4F7B-A0F9-0A88A7B8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2CDD8-F640-46DD-902D-700519B1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DAFBF-99FE-43F8-BACC-4378A798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61822-798F-42BB-B61B-0D6E8B8E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87D59-4D9A-40EC-B2D0-6B06DA21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AD96F-0D0A-4240-9481-1CED10B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C5A3E-8AE5-44F8-B8F9-FCF60FBA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6556E-8904-41E0-8876-473CD886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EC5A5-2B60-4485-B3A2-22FE8990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CB86A-9F26-48DE-A39B-8D18294B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8771A-B860-4FB6-A956-836E1C69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9E3E-C99B-496F-88F6-CBA7AA9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78833-DD51-4420-920B-926DC04C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E772E-AF11-436F-83B1-AF69A246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EB8AC-650B-43F8-B774-0DA68AD3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0E7EC-C176-4111-B41F-69C45F59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DBDEE-3A44-4330-84AC-905ABDB9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1C0B4-46B2-49FF-A1CD-343F480E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AE3A8-03B9-485D-80F1-3A922815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05F38-19DF-4CB5-9737-5CFCD06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8DB4C-5EF2-4919-ABCF-5D19FEF2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AEF1D-194F-4332-B1B6-154CECA5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451C-70E7-4285-9956-B679AB1C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20A0F-F7FA-44CB-8490-D6CA94FE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4B739-1E8A-4715-99A8-46F6386B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E0699-4467-441C-B54C-1905DB37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9D0A7-1382-44E9-BF35-B1898DE8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1AC94-FFB4-4918-885C-0065AE3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B2F36-F8E1-4B4A-82AF-FA6BAECE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F7351-8E7F-45B5-BDF9-CFF933E8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181E5-E88C-40DB-A52D-373CBDB2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A4D2C-919E-4D47-B02C-DADA31F7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9F8FE-EEA0-46A1-8020-3962405F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53F-B479-4598-B9D5-80619DCF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B71C-8F9B-4641-8BBD-E0C43DAF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B1E10-35A7-475C-8D50-E9FC3E9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E5614-0C13-4DFC-82E2-330F2F93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35759-1B81-46C5-9DDF-7B5B9869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774E7A-535F-4203-A0F5-AEE4685C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2A08F-0614-4711-9025-E42941C6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27CF-DA07-473E-BCDD-4B711B3F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FAC8-FD17-47FA-881C-D39CD277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8124-E103-4167-AA0F-D89A7C6D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9BD2-ACE0-42C3-BE84-CA90C7BC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D1C0-7929-4149-9E07-E642625F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048E-BAC0-4652-B244-FC05DA6E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0FBC-EDF9-479E-AF51-863E842E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8052-1AB4-44A4-8A18-70B3E49F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9DA3-45EC-44EA-9E7A-9DFE84F3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90A-1FE8-44AB-B359-363E372E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4C73-2146-4B28-9B03-26D47B5A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756E-0296-43B2-AE88-7EA2C275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D27F-D705-4619-9777-E2C2DB2D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4B4A-0CD4-4FE1-9319-22A89C7E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3D5B-D128-4F51-95A4-10E6D240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694AB-6F89-435F-B0F9-B2395CD1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6316-3F39-40D6-BBFD-9868901C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D1DB-4DE5-426F-A8D2-FC855479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009DB-2B65-4946-BB28-2D3F0BC8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208A-153F-4DD9-9A7F-2FA95787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460-3236-4E02-86AA-0038ECBE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9AB8-23CD-49AE-BF8E-44485035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939A-F06F-4C9B-9ED5-27D71309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61206-D0EA-4389-AA63-CEAE04F0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D686C-0451-4767-BDBA-463AB6CC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36DE-845D-44A6-97DB-98D23AF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7E87-4084-4F7A-B4FA-8031C4B5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FCED-3073-4256-9E1B-2D64C0C5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9560-59DA-4281-845F-DA85C09F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C5D0B-0398-4322-92D6-EF9CF8A7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2AC46-37F9-4D32-82A2-3548C356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A52-1A68-42C5-B577-5F18CB80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CE3A5-244B-4353-9984-BD258C7E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0C95-A34D-4162-A33B-251E02A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B0260-7F81-4E27-9A9E-06B75434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8A070-27A2-46E3-AC2C-24A9B6E9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1530C-7B35-4D8E-83F1-8F9E515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77584-D38F-482E-BA13-F3D476DE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0CE7E-B6B0-477D-8016-16804901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167A-6015-4982-AF6A-1474C220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8C4D-1894-4DE3-9A6A-0B6D6FC5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0E18-4043-4F54-8309-A0805753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DD7-7950-4A4A-91EF-E3A2F613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45ED-5CAB-4641-9A35-E853DDB6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E9029-2EE2-473A-8F61-82BD7505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4EC23-062D-4673-98B1-2829926C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F6565-F308-4E48-8BED-6310B3E3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7218A-15D6-4922-A216-EDE4BDE6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1FD8A-CD7F-4826-AD4B-F4FB6613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1B62-163F-43A6-A98D-D9F44420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65DF-EE21-4BCE-8A89-7C86F6E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85B09-DEE4-4634-B980-4032456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9C09-36A4-4353-9130-F320F98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51E-3127-4965-A4D6-CB062254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D29CF-AB0B-4649-AB95-9BCC10BF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DE62D-9431-4966-92C0-CC19E093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124C6-9C2D-4429-84CC-F1CF19DA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DFE91-248B-43DB-B97E-06E514A7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00C10-CAE9-48B0-BCED-23B67419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ABDC0-595A-4A0D-B47C-2AC8CD40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95254-AD11-40D6-8BF9-8B11550D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AE106-E582-4BCC-AE4E-9725D53B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69267-9C6B-40E3-B4B3-AD0787B4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67916-2DF1-497D-A2BD-737AE673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2AC-D3B4-43E9-948F-B3A5CA99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6A4B-B738-47F3-93CF-F65C9B9D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F86F1-3CC6-4C86-A025-5C70EF07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EF012-610F-49E1-9536-4D24B944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26D3F-FD6F-4C7F-BD8F-AE3C0B24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198D8-CDF3-424F-A5F0-6A04391C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01A5D-AEE9-44AC-BC0A-CE83C6DD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F9648-523A-4DFA-8402-DF427784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5C60-7D38-4D83-8443-4C9FAB74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66293-0D6D-4FB5-90EC-EA93C068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15BCC-458F-4579-85A5-4503EE9E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0BF-5875-4594-AF60-93C4654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5429F-F343-4846-8961-77F56312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EA1DF-9F32-4F66-AA23-B858C4D3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9B4D9-DC9B-4242-BC4F-E017031F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00FCA-3FA8-4E88-9B5A-B2DC4CC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5A33D-74F7-4A07-A4D1-B658333A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E1675-5421-4C0C-815F-19EC6CFE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D4841-51A6-4225-8485-DCFF7B64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596D7-38D1-4750-9198-E4A1218C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1CFA6-0FAC-429F-9BDD-5C5FE805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4C6C5-6D54-4119-9246-56DC97BD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FD9A1-154E-4512-A2FA-57D4E97DF7B1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1BA36-FE32-4963-B10B-2F35964EB75C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2F178-DF4D-42D8-94B3-67843AFAAFED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C3790-76FC-42D6-9842-417222D8A6AB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33DF2-2C91-4760-AB70-00BD77DED29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3BB44-680E-4F39-9ECD-F2D465FE574D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9C2D5-6D91-49BB-9647-96E7C0AF60E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23F3B-5E27-4747-BA80-1906DC7A2271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9BE35-EA89-4DAD-B4F9-B740D4DD831D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FBBAE-6EE9-4FFF-94F0-A3FAFB1EDC83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909FB-877B-4A65-9C92-7FD3F7C40923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09E9B-9F2E-45FF-8526-EE94F4C6C7E5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26B50-B7EF-493C-A802-5751B183BBE8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C95A3-C53F-43CB-80B4-2AC4955453BC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73563-6399-4601-A381-20E08EA1DEE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F5E13-7657-4C35-AAFC-D7A26EC01EE8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6928F-1089-4210-BADF-085D0BA71249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5"/>
          <p:cNvSpPr/>
          <p:nvPr/>
        </p:nvSpPr>
        <p:spPr>
          <a:xfrm>
            <a:off x="1353960" y="210960"/>
            <a:ext cx="8812440" cy="26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6600" spc="-1" strike="noStrike">
                <a:solidFill>
                  <a:srgbClr val="0f5e7c"/>
                </a:solidFill>
                <a:latin typeface="Calibri"/>
                <a:ea typeface="Arial"/>
              </a:rPr>
              <a:t>Aggiornamento sul Progetto BIOREU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1415880" y="4348080"/>
            <a:ext cx="63169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3200" spc="-1" strike="noStrike">
                <a:solidFill>
                  <a:srgbClr val="00b050"/>
                </a:solidFill>
                <a:latin typeface="Calibri"/>
                <a:ea typeface="MS PGothic"/>
              </a:rPr>
              <a:t>Antonia Locap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3200" spc="-1" strike="noStrike">
                <a:solidFill>
                  <a:srgbClr val="00b050"/>
                </a:solidFill>
                <a:latin typeface="Calibri"/>
                <a:ea typeface="MS PGothic"/>
              </a:rPr>
              <a:t>Dipartimento Apparato Locomo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3200" spc="-1" strike="noStrike">
                <a:solidFill>
                  <a:srgbClr val="00b050"/>
                </a:solidFill>
                <a:latin typeface="Calibri"/>
                <a:ea typeface="MS PGothic"/>
              </a:rPr>
              <a:t>S.C. Reumat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3200" spc="-1" strike="noStrike">
                <a:solidFill>
                  <a:srgbClr val="00b050"/>
                </a:solidFill>
                <a:latin typeface="Calibri"/>
                <a:ea typeface="MS PGothic"/>
              </a:rPr>
              <a:t>ASL3 - Ge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6"/>
          <p:cNvSpPr/>
          <p:nvPr/>
        </p:nvSpPr>
        <p:spPr>
          <a:xfrm>
            <a:off x="277920" y="5829480"/>
            <a:ext cx="1219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5" descr="loghiAsl3_per_carta_intestata"/>
          <p:cNvPicPr/>
          <p:nvPr/>
        </p:nvPicPr>
        <p:blipFill>
          <a:blip r:embed="rId1"/>
          <a:stretch/>
        </p:blipFill>
        <p:spPr>
          <a:xfrm>
            <a:off x="277920" y="5829480"/>
            <a:ext cx="2276280" cy="1028520"/>
          </a:xfrm>
          <a:prstGeom prst="rect">
            <a:avLst/>
          </a:prstGeom>
          <a:ln w="0">
            <a:noFill/>
          </a:ln>
        </p:spPr>
      </p:pic>
      <p:pic>
        <p:nvPicPr>
          <p:cNvPr id="1187" name="Immagine 1" descr=""/>
          <p:cNvPicPr/>
          <p:nvPr/>
        </p:nvPicPr>
        <p:blipFill>
          <a:blip r:embed="rId2"/>
          <a:stretch/>
        </p:blipFill>
        <p:spPr>
          <a:xfrm>
            <a:off x="7850160" y="3067200"/>
            <a:ext cx="434196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Immagine 2" descr=""/>
          <p:cNvPicPr/>
          <p:nvPr/>
        </p:nvPicPr>
        <p:blipFill>
          <a:blip r:embed="rId1"/>
          <a:stretch/>
        </p:blipFill>
        <p:spPr>
          <a:xfrm>
            <a:off x="374760" y="1440"/>
            <a:ext cx="6705360" cy="3333960"/>
          </a:xfrm>
          <a:prstGeom prst="rect">
            <a:avLst/>
          </a:prstGeom>
          <a:ln w="0">
            <a:noFill/>
          </a:ln>
        </p:spPr>
      </p:pic>
      <p:sp>
        <p:nvSpPr>
          <p:cNvPr id="1226" name="CasellaDiTesto 5"/>
          <p:cNvSpPr/>
          <p:nvPr/>
        </p:nvSpPr>
        <p:spPr>
          <a:xfrm>
            <a:off x="4564080" y="909720"/>
            <a:ext cx="7572240" cy="459720"/>
          </a:xfrm>
          <a:prstGeom prst="rect">
            <a:avLst/>
          </a:prstGeom>
          <a:solidFill>
            <a:srgbClr val="d6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SL3 – Costo totale (reale e standard) e differenza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CasellaDiTesto 1"/>
          <p:cNvSpPr/>
          <p:nvPr/>
        </p:nvSpPr>
        <p:spPr>
          <a:xfrm>
            <a:off x="6531120" y="3444840"/>
            <a:ext cx="1504800" cy="368280"/>
          </a:xfrm>
          <a:prstGeom prst="rect">
            <a:avLst/>
          </a:prstGeom>
          <a:noFill/>
          <a:ln w="9360">
            <a:solidFill>
              <a:srgbClr val="bf1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9 pz AS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CasellaDiTesto 7"/>
          <p:cNvSpPr/>
          <p:nvPr/>
        </p:nvSpPr>
        <p:spPr>
          <a:xfrm>
            <a:off x="4352760" y="2620800"/>
            <a:ext cx="64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  <a:ea typeface="Arial"/>
              </a:rPr>
              <a:t>-25,0</a:t>
            </a:r>
            <a:r>
              <a:rPr b="1" lang="it-IT" sz="10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Immagine 5" descr=""/>
          <p:cNvPicPr/>
          <p:nvPr/>
        </p:nvPicPr>
        <p:blipFill>
          <a:blip r:embed="rId2"/>
          <a:stretch/>
        </p:blipFill>
        <p:spPr>
          <a:xfrm>
            <a:off x="374760" y="3444840"/>
            <a:ext cx="5640120" cy="3498840"/>
          </a:xfrm>
          <a:prstGeom prst="rect">
            <a:avLst/>
          </a:prstGeom>
          <a:ln w="0">
            <a:noFill/>
          </a:ln>
        </p:spPr>
      </p:pic>
      <p:sp>
        <p:nvSpPr>
          <p:cNvPr id="1230" name="CasellaDiTesto 5"/>
          <p:cNvSpPr/>
          <p:nvPr/>
        </p:nvSpPr>
        <p:spPr>
          <a:xfrm>
            <a:off x="4195800" y="4630680"/>
            <a:ext cx="7940520" cy="825480"/>
          </a:xfrm>
          <a:prstGeom prst="rect">
            <a:avLst/>
          </a:prstGeom>
          <a:solidFill>
            <a:srgbClr val="e0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SL3 – Costo medio farmaco (reale e standard) e differenza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523880" y="980640"/>
            <a:ext cx="9144000" cy="66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dee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f5e7c"/>
                </a:solidFill>
                <a:latin typeface="Calibri"/>
              </a:rPr>
              <a:t>ASL3 Genovese - SC Reumatologia</a:t>
            </a:r>
            <a:endParaRPr b="0" lang="en-US" sz="40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2" name="CasellaDiTesto 3"/>
          <p:cNvSpPr/>
          <p:nvPr/>
        </p:nvSpPr>
        <p:spPr>
          <a:xfrm>
            <a:off x="2144880" y="2270160"/>
            <a:ext cx="7902360" cy="375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dee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bf1698"/>
                </a:solidFill>
                <a:latin typeface="Century Gothic"/>
              </a:rPr>
              <a:t>Analisi dei costi delle terapie biologiche per le patologie articolari infiammat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bf1698"/>
                </a:solidFill>
                <a:latin typeface="Century Gothic"/>
              </a:rPr>
              <a:t>(2014-201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CasellaDiTesto 2"/>
          <p:cNvSpPr/>
          <p:nvPr/>
        </p:nvSpPr>
        <p:spPr>
          <a:xfrm>
            <a:off x="1523880" y="149400"/>
            <a:ext cx="9144000" cy="459720"/>
          </a:xfrm>
          <a:prstGeom prst="rect">
            <a:avLst/>
          </a:prstGeom>
          <a:solidFill>
            <a:srgbClr val="d6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SL3 – Costo totale (reale e standard) e differenza dal 2014 al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Immagine 4" descr=""/>
          <p:cNvPicPr/>
          <p:nvPr/>
        </p:nvPicPr>
        <p:blipFill>
          <a:blip r:embed="rId1"/>
          <a:stretch/>
        </p:blipFill>
        <p:spPr>
          <a:xfrm>
            <a:off x="1665360" y="1058760"/>
            <a:ext cx="9825120" cy="5270760"/>
          </a:xfrm>
          <a:prstGeom prst="rect">
            <a:avLst/>
          </a:prstGeom>
          <a:ln w="0">
            <a:noFill/>
          </a:ln>
        </p:spPr>
      </p:pic>
      <p:sp>
        <p:nvSpPr>
          <p:cNvPr id="1235" name="CasellaDiTesto 7"/>
          <p:cNvSpPr/>
          <p:nvPr/>
        </p:nvSpPr>
        <p:spPr>
          <a:xfrm>
            <a:off x="4164120" y="5467320"/>
            <a:ext cx="64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  <a:ea typeface="Arial"/>
              </a:rPr>
              <a:t>-25,0</a:t>
            </a:r>
            <a:r>
              <a:rPr b="1" lang="it-IT" sz="10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CasellaDiTesto 9"/>
          <p:cNvSpPr/>
          <p:nvPr/>
        </p:nvSpPr>
        <p:spPr>
          <a:xfrm>
            <a:off x="6062760" y="5337000"/>
            <a:ext cx="63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  <a:ea typeface="Arial"/>
              </a:rPr>
              <a:t>-21,7</a:t>
            </a:r>
            <a:r>
              <a:rPr b="1" lang="it-IT" sz="10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CasellaDiTesto 10"/>
          <p:cNvSpPr/>
          <p:nvPr/>
        </p:nvSpPr>
        <p:spPr>
          <a:xfrm>
            <a:off x="7894800" y="5278320"/>
            <a:ext cx="63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it-IT" sz="1100" spc="-1" strike="noStrike">
                <a:solidFill>
                  <a:srgbClr val="ff0000"/>
                </a:solidFill>
                <a:latin typeface="Calibri"/>
                <a:ea typeface="Arial"/>
              </a:rPr>
              <a:t>-19,3</a:t>
            </a:r>
            <a:r>
              <a:rPr b="1" lang="it-IT" sz="10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CasellaDiTesto 11"/>
          <p:cNvSpPr/>
          <p:nvPr/>
        </p:nvSpPr>
        <p:spPr>
          <a:xfrm>
            <a:off x="9825120" y="5226120"/>
            <a:ext cx="64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  <a:ea typeface="Arial"/>
              </a:rPr>
              <a:t>-19,7</a:t>
            </a:r>
            <a:r>
              <a:rPr b="1" lang="it-IT" sz="10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CasellaDiTesto 8"/>
          <p:cNvSpPr/>
          <p:nvPr/>
        </p:nvSpPr>
        <p:spPr>
          <a:xfrm>
            <a:off x="3014640" y="768240"/>
            <a:ext cx="1081080" cy="276480"/>
          </a:xfrm>
          <a:prstGeom prst="rect">
            <a:avLst/>
          </a:prstGeom>
          <a:noFill/>
          <a:ln w="9360">
            <a:solidFill>
              <a:srgbClr val="bf1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200" spc="-1" strike="noStrike">
                <a:solidFill>
                  <a:srgbClr val="1d436d"/>
                </a:solidFill>
                <a:latin typeface="Arial"/>
              </a:rPr>
              <a:t>309 pz AS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CasellaDiTesto 10"/>
          <p:cNvSpPr/>
          <p:nvPr/>
        </p:nvSpPr>
        <p:spPr>
          <a:xfrm>
            <a:off x="8583480" y="1413000"/>
            <a:ext cx="1081080" cy="276480"/>
          </a:xfrm>
          <a:prstGeom prst="rect">
            <a:avLst/>
          </a:prstGeom>
          <a:noFill/>
          <a:ln w="9360">
            <a:solidFill>
              <a:srgbClr val="bf1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200" spc="-1" strike="noStrike">
                <a:solidFill>
                  <a:srgbClr val="1d436d"/>
                </a:solidFill>
                <a:latin typeface="Arial"/>
              </a:rPr>
              <a:t>228 pz AS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e 12"/>
          <p:cNvSpPr/>
          <p:nvPr/>
        </p:nvSpPr>
        <p:spPr>
          <a:xfrm>
            <a:off x="3905280" y="5337000"/>
            <a:ext cx="1008000" cy="503280"/>
          </a:xfrm>
          <a:prstGeom prst="ellipse">
            <a:avLst/>
          </a:prstGeom>
          <a:noFill/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e 13"/>
          <p:cNvSpPr/>
          <p:nvPr/>
        </p:nvSpPr>
        <p:spPr>
          <a:xfrm>
            <a:off x="9659880" y="5105520"/>
            <a:ext cx="1008000" cy="503280"/>
          </a:xfrm>
          <a:prstGeom prst="ellipse">
            <a:avLst/>
          </a:prstGeom>
          <a:noFill/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e 14"/>
          <p:cNvSpPr/>
          <p:nvPr/>
        </p:nvSpPr>
        <p:spPr>
          <a:xfrm>
            <a:off x="2828880" y="654120"/>
            <a:ext cx="1563840" cy="503280"/>
          </a:xfrm>
          <a:prstGeom prst="ellipse">
            <a:avLst/>
          </a:prstGeom>
          <a:noFill/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e 15"/>
          <p:cNvSpPr/>
          <p:nvPr/>
        </p:nvSpPr>
        <p:spPr>
          <a:xfrm>
            <a:off x="8342280" y="1300320"/>
            <a:ext cx="1563840" cy="502920"/>
          </a:xfrm>
          <a:prstGeom prst="ellipse">
            <a:avLst/>
          </a:prstGeom>
          <a:noFill/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2388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Century Gothic"/>
              </a:rPr>
              <a:t>PROGETTO BIOREUMA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919160" y="3500280"/>
            <a:ext cx="8229600" cy="27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Obiettivo dello studio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Sicurezza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Efficacia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Risparmio economico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Miglior profilo di safe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7" name="CasellaDiTesto 4"/>
          <p:cNvSpPr/>
          <p:nvPr/>
        </p:nvSpPr>
        <p:spPr>
          <a:xfrm>
            <a:off x="2279520" y="162864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Studio interventistico prospettico con disegno di non inferiorità della durata di 24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pazienti affetti da AR, AP, SA, axS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501920" y="4762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Century Gothic"/>
              </a:rPr>
              <a:t>Strategia di riduzione del dosaggio</a:t>
            </a:r>
            <a:endParaRPr b="0" lang="en-US" sz="40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946160" y="3499920"/>
            <a:ext cx="82296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Obiettivi Secondari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entury Gothic"/>
              </a:rPr>
              <a:t>Eventuale superiorità in termini di safe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entury Gothic"/>
              </a:rPr>
              <a:t>Eventuale «cost minimization» sulla base di costi diretti (prestazioni sanitarie erogate: ricoveri, accessi ambulatoriali o PS, acquisto di farmaci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200" spc="-1" strike="noStrike">
                <a:solidFill>
                  <a:srgbClr val="7f7f7f"/>
                </a:solidFill>
                <a:latin typeface="Century Gothic"/>
              </a:rPr>
              <a:t>[database sanitario-amministrativo della Regione Liguria]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Segnaposto contenuto 2"/>
          <p:cNvSpPr/>
          <p:nvPr/>
        </p:nvSpPr>
        <p:spPr>
          <a:xfrm>
            <a:off x="198108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e536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Obiettivo Primar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31b4e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  <a:ea typeface="MS PGothic"/>
              </a:rPr>
              <a:t>Non inferiorità della strategia di Tapering rispetto alla terapia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31b4e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e536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31b4e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ttangolo 4"/>
          <p:cNvSpPr/>
          <p:nvPr/>
        </p:nvSpPr>
        <p:spPr>
          <a:xfrm>
            <a:off x="1774800" y="266760"/>
            <a:ext cx="864252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Criteri di inclu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Saranno arruolabili i seguenti pazie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Aventi capacità di esprimere valido consenso in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Di età </a:t>
            </a:r>
            <a:r>
              <a:rPr b="0" lang="it-IT" sz="1800" spc="-1" strike="noStrike">
                <a:solidFill>
                  <a:srgbClr val="002060"/>
                </a:solidFill>
                <a:latin typeface="Symbol"/>
                <a:ea typeface="Symbol"/>
              </a:rPr>
              <a:t></a:t>
            </a: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 18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Affetti da una delle seguenti artropatie infiammatorie: artrite reumatoide (AR), artrite psoriasica (APs), spondilite anchilosante (SpA), spondiloartrite assiale (axSpA), spondiloartrite sieronegativa di altra natura (ad esempio associata a malattia infiammatoria intestin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Che si presentino in uno </a:t>
            </a:r>
            <a:r>
              <a:rPr b="0" lang="it-IT" sz="1800" spc="-1" strike="noStrike">
                <a:solidFill>
                  <a:srgbClr val="ff0000"/>
                </a:solidFill>
                <a:latin typeface="Franklin Gothic Book"/>
                <a:ea typeface="MS PGothic"/>
              </a:rPr>
              <a:t>stato di remissione da almeno 3 mesi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. </a:t>
            </a: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Per i pazienti con AR e APs, la remissione sarà definita come un </a:t>
            </a:r>
            <a:r>
              <a:rPr b="0" i="1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disease activity score</a:t>
            </a: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Franklin Gothic Book"/>
                <a:ea typeface="MS PGothic"/>
              </a:rPr>
              <a:t>(DAS28 &lt; 2,6) </a:t>
            </a: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e per i pazienti con spondiloartriti con coinvolgimento assiale la remissione sarà definita come un valore di </a:t>
            </a:r>
            <a:r>
              <a:rPr b="0" lang="it-IT" sz="1800" spc="-1" strike="noStrike">
                <a:solidFill>
                  <a:srgbClr val="ff0000"/>
                </a:solidFill>
                <a:latin typeface="Franklin Gothic Book"/>
                <a:ea typeface="MS PGothic"/>
              </a:rPr>
              <a:t>BASDAI &lt; 50% </a:t>
            </a: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rispetto al valore iniziale, associato a misurazione del dolore tramite </a:t>
            </a:r>
            <a:r>
              <a:rPr b="0" i="1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visual analogue scale</a:t>
            </a: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Franklin Gothic Book"/>
                <a:ea typeface="MS PGothic"/>
              </a:rPr>
              <a:t>(VAS) &lt;10</a:t>
            </a: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, con indici di flogosi norm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In trattamento con un bDMARD approvato in Italia per quella determinata indic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Criteri di esclu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Incapacità di esprimere valido consenso in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Rifiuto della partecipazione allo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Rifiuto ad aderire alla strategia di tap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Previsione di arruo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È prevista l</a:t>
            </a:r>
            <a:r>
              <a:rPr b="0" lang="ja-JP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’</a:t>
            </a:r>
            <a:r>
              <a:rPr b="0" lang="it-IT" sz="1800" spc="-1" strike="noStrike">
                <a:solidFill>
                  <a:srgbClr val="002060"/>
                </a:solidFill>
                <a:latin typeface="Franklin Gothic Book"/>
                <a:ea typeface="MS PGothic"/>
              </a:rPr>
              <a:t>inclusione di circa 100 pazie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ttangolo 3"/>
          <p:cNvSpPr/>
          <p:nvPr/>
        </p:nvSpPr>
        <p:spPr>
          <a:xfrm>
            <a:off x="1774800" y="549360"/>
            <a:ext cx="86425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Se presente remissione (DAS28 &lt; 2,6) verrà effettuata la seguente riduzi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ABATACEPT 125 mg 1 fiala (fl) per via sottocutanea (s.c.) ogni 10 gior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ABATACEPT infusione endovenosa (e.v.), secondo peso corporeo, ogni 5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ADALIMUMAB 40 mg 1 fl s.c. ogni 3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CERTOLIZUMAB 200 mg 1 fl s.c. ogni 3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ETANERCEPT 50 mg 1 fl s.c. ogni 10 gior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GOLIMUMAB 50 mg 1 fl s.c. ogni 5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INFLIXIMAB infusione e.v., secondo peso corporeo, ogni 9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TOCILIZUMAB 162 mg 1 fl s.c. ogni 10 gior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TOCILIZUMAB infusione e.v., secondo peso corporeo, ogni 5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RITUXIMAB, ciclo di 2 infusioni da 1000 mg ciascuna da effettuarsi a distanza di 15 giorni 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una dal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altra, ogni 7 m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SECUKINUMAB, 150 mg 1 fl s.c. o 300 mg 1 fl s.c. (sec. Scheda tecnica), ogni 5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ttangolo 4"/>
          <p:cNvSpPr/>
          <p:nvPr/>
        </p:nvSpPr>
        <p:spPr>
          <a:xfrm>
            <a:off x="1811160" y="3141720"/>
            <a:ext cx="860616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Se nella visita successiva, a distanza di 3 mesi, il pz non è andato incontro a ricaduta di malattia, verrà effettuata la seguente riduzi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ABATACEPT 125 mg 1 fiala (fl) per via sottocutanea (s.c.) ogni 2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ABATACEPT infusione endovenosa (e.v.), secondo peso corporeo, ogni 6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ADALIMUMAB 40 mg 1 fl s.c. ogni 4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CERTOLIZUMAB 200 mg 1 fl s.c. ogni 4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ETANERCEPT 50 mg 1 fl s.c. ogni 2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GOLIMUMAB 50 mg 1 fl s.c. ogni 6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INFLIXIMAB infusione e.v., secondo peso corporeo, ogni 10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TOCILIZUMAB 162 mg 1 fl s.c. ogni 2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TOCILIZUMAB infusione e.v., secondo peso corporeo, ogni 6 settim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RITUXIMAB, ciclo di 2 infusioni da 1000 mg, ogni 8 m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SECUKINUMAB, 150 mg 1 fl s.c. o 300 mg 1 fl s.c. ogni 6 settim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ttangolo 5"/>
          <p:cNvSpPr/>
          <p:nvPr/>
        </p:nvSpPr>
        <p:spPr>
          <a:xfrm>
            <a:off x="1703520" y="5726160"/>
            <a:ext cx="87850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Nella visita successiva, dopo ulteriori 3 mesi, se presente remissione secondo criteri ancora più stringenti (ACR/EULAR Boolean remission oppure SDAI ≤ 3,3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La terapia con farmaco biologico sarà sospesa, proseguendo esclusivamente il DMARD sintet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caso di peggioramento clinico, il dosaggio del DMARD sintetico sarà aumentato fino al massimo consentito e/o tollera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Se tale aggiustamento terapeutico non sarà sufficiente, il paziente sarà nuovamente inserito in terapia con bDM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ttangolo 1"/>
          <p:cNvSpPr/>
          <p:nvPr/>
        </p:nvSpPr>
        <p:spPr>
          <a:xfrm>
            <a:off x="1523880" y="10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ARTRITE REUMATOIDE E ARTRITE PSORIA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ttangolo 3"/>
          <p:cNvSpPr/>
          <p:nvPr/>
        </p:nvSpPr>
        <p:spPr>
          <a:xfrm>
            <a:off x="2063880" y="1125360"/>
            <a:ext cx="813564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2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MS PGothic"/>
              </a:rPr>
              <a:t>1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Se si è ottenuto un valore di BASDAI &lt; 50% rispetto al valore iniziale, associato a misurazione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dolore tramit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visual analogue sca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 (VAS) &lt;10, con indici di flogosi normali, verrà effettuata la seguente riduz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ADALIMUMAB 40 mg 1 fl s.c. ogni 3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ERTOLIZUMAB 200 mg 1 fl s.c. ogni 3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ETANERCEPT 50 mg 1 fl s.c. ogni 10 gior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GOLIMUMAB 50 mg 1 fl s.c. ogni 5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INFLIXIMAB infusione e.v., secondo peso corporeo, ogni 9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SECUKINUMAB, 150 mg 1 fl s.c., ogni 5 settim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CasellaDiTesto 1"/>
          <p:cNvSpPr/>
          <p:nvPr/>
        </p:nvSpPr>
        <p:spPr>
          <a:xfrm>
            <a:off x="1523880" y="3650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SPONDILITE ANCHILOSANTE o SPONDILOARTRITE ASS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ttangolo 9"/>
          <p:cNvSpPr/>
          <p:nvPr/>
        </p:nvSpPr>
        <p:spPr>
          <a:xfrm>
            <a:off x="2063880" y="3645000"/>
            <a:ext cx="813564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2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2. ella visita successiva, a distanza di 3 mesi, il paziente non è andato incontro a riacutizzaz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ADALIMUMAB 40 mg 1 fl s.c. ogni 4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ERTOLIZUMAB 200 mg 1 fl s.c. ogni 4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ETANERCEPT 50 mg 1 fl s.c. ogni 2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GOLIMUMAB 50 mg 1 fl s.c. ogni 6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INFLIXIMAB infusione e.v., secondo peso corporeo, ogni 10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SECUKINUMAB, 150 mg 1 fl s.c., ogni 6 settim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ttangolo 10"/>
          <p:cNvSpPr/>
          <p:nvPr/>
        </p:nvSpPr>
        <p:spPr>
          <a:xfrm>
            <a:off x="2063880" y="5499000"/>
            <a:ext cx="81356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3. Nella visita successiva, dopo ulteriori 3 mesi, se presente ancora remiss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La terapia con farmaco biologico sarà sosp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In caso di peggioramento clinico, verrà effettuato ciclo di terapia con farmaci anti-infiammatori non-steroidei e, se inefficace, verrà ripresa terapia con farmaco biolog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ttangolo 3"/>
          <p:cNvSpPr/>
          <p:nvPr/>
        </p:nvSpPr>
        <p:spPr>
          <a:xfrm>
            <a:off x="1919160" y="404640"/>
            <a:ext cx="8352000" cy="57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Tempistiche delle visite e delle valu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Tutti i pazienti verranno seguiti secondo i principi del </a:t>
            </a:r>
            <a:r>
              <a:rPr b="0" i="1" lang="it-IT" sz="1600" spc="-1" strike="noStrike">
                <a:solidFill>
                  <a:srgbClr val="ff0000"/>
                </a:solidFill>
                <a:latin typeface="Arial"/>
                <a:ea typeface="MS PGothic"/>
              </a:rPr>
              <a:t>tight control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, con visite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MS PGothic"/>
              </a:rPr>
              <a:t>ogni 3 mesi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e controllo degli esami ematochimici secondo pratica clin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Per ciascun paziente saranno registrati i dati demografici, l</a:t>
            </a:r>
            <a:r>
              <a:rPr b="0" lang="ja-JP" sz="1600" spc="-1" strike="noStrike">
                <a:solidFill>
                  <a:srgbClr val="002060"/>
                </a:solidFill>
                <a:latin typeface="Arial"/>
                <a:ea typeface="MS PGothic"/>
              </a:rPr>
              <a:t>’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anamnesi patologica remota e prossima, le terapie assunte in precedenza, la terapia attuale, l</a:t>
            </a:r>
            <a:r>
              <a:rPr b="0" lang="ja-JP" sz="1600" spc="-1" strike="noStrike">
                <a:solidFill>
                  <a:srgbClr val="002060"/>
                </a:solidFill>
                <a:latin typeface="Arial"/>
                <a:ea typeface="MS PGothic"/>
              </a:rPr>
              <a:t>’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attività di malattia, gli eventi avversi (sia infettivi sia iatrogeni)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La rilevazione degli eventi avversi in tutti i pazienti in terapia con bDMARDs, che parteciperanno allo studio, sarà valutata attraverso il modulo </a:t>
            </a: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Bioreuma</a:t>
            </a: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Nella S.C. Reumatologia della ASL3 Genovese, è già pratica clinica corrente utilizzare per lo svolgimento delle visite la cartella elettronica informatizzata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MS PGothic"/>
              </a:rPr>
              <a:t>ReumaRecord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, che consente l</a:t>
            </a:r>
            <a:r>
              <a:rPr b="0" lang="ja-JP" sz="1600" spc="-1" strike="noStrike">
                <a:solidFill>
                  <a:srgbClr val="002060"/>
                </a:solidFill>
                <a:latin typeface="Arial"/>
                <a:ea typeface="MS PGothic"/>
              </a:rPr>
              <a:t>’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inserimento di svariati dati anagrafici e clinici e la scrittura di testo libero. Tutte le informazioni sono reperibili online solo dal titolare delle credenziali, uniche per ciascun medico. Il sistema prevede la disconnessione automatica dell</a:t>
            </a:r>
            <a:r>
              <a:rPr b="0" lang="ja-JP" sz="1600" spc="-1" strike="noStrike">
                <a:solidFill>
                  <a:srgbClr val="002060"/>
                </a:solidFill>
                <a:latin typeface="Arial"/>
                <a:ea typeface="MS PGothic"/>
              </a:rPr>
              <a:t>’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MS PGothic"/>
              </a:rPr>
              <a:t>utente in caso di inattività al computer, in modo da evitare che altri possano accedere ai dati del paz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Immagine 1" descr="Bioreuma 1.jpeg"/>
          <p:cNvPicPr/>
          <p:nvPr/>
        </p:nvPicPr>
        <p:blipFill>
          <a:blip r:embed="rId1"/>
          <a:stretch/>
        </p:blipFill>
        <p:spPr>
          <a:xfrm>
            <a:off x="860400" y="166680"/>
            <a:ext cx="11248920" cy="638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2" name="Ovale 1"/>
          <p:cNvSpPr/>
          <p:nvPr/>
        </p:nvSpPr>
        <p:spPr>
          <a:xfrm>
            <a:off x="725400" y="3346560"/>
            <a:ext cx="1008000" cy="503280"/>
          </a:xfrm>
          <a:prstGeom prst="ellipse">
            <a:avLst/>
          </a:prstGeom>
          <a:noFill/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532320" y="712440"/>
            <a:ext cx="914400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it-IT" sz="4800" spc="-1" strike="noStrike">
                <a:solidFill>
                  <a:srgbClr val="498392"/>
                </a:solidFill>
                <a:latin typeface="Century Gothic"/>
              </a:rPr>
              <a:t>PROGETTO BIOREUMA</a:t>
            </a:r>
            <a:endParaRPr b="0" lang="en-US" sz="48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9" name="CasellaDiTesto 4"/>
          <p:cNvSpPr/>
          <p:nvPr/>
        </p:nvSpPr>
        <p:spPr>
          <a:xfrm>
            <a:off x="4302000" y="2730600"/>
            <a:ext cx="7561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7f0e66"/>
                </a:solidFill>
                <a:latin typeface="Arial"/>
                <a:ea typeface="MS PGothic"/>
              </a:rPr>
              <a:t>Costituire una rete dei centri prescrittori di farmaci  biotecnologici con l’obiettivo di assicurare appropriatezza e omogeneità nel loro uso in Regione Ligur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Immagine 1" descr=""/>
          <p:cNvPicPr/>
          <p:nvPr/>
        </p:nvPicPr>
        <p:blipFill>
          <a:blip r:embed="rId1"/>
          <a:stretch/>
        </p:blipFill>
        <p:spPr>
          <a:xfrm>
            <a:off x="314280" y="76320"/>
            <a:ext cx="38941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Immagine 2" descr="Bioreuma 2.jpeg"/>
          <p:cNvPicPr/>
          <p:nvPr/>
        </p:nvPicPr>
        <p:blipFill>
          <a:blip r:embed="rId1"/>
          <a:stretch/>
        </p:blipFill>
        <p:spPr>
          <a:xfrm>
            <a:off x="1631880" y="981000"/>
            <a:ext cx="8891640" cy="50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Immagine 2" descr="Bioreuma 5 infez.jpeg"/>
          <p:cNvPicPr/>
          <p:nvPr/>
        </p:nvPicPr>
        <p:blipFill>
          <a:blip r:embed="rId1"/>
          <a:stretch/>
        </p:blipFill>
        <p:spPr>
          <a:xfrm>
            <a:off x="1703520" y="1125360"/>
            <a:ext cx="8677080" cy="492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Immagine 1" descr=""/>
          <p:cNvPicPr/>
          <p:nvPr/>
        </p:nvPicPr>
        <p:blipFill>
          <a:blip r:embed="rId1"/>
          <a:stretch/>
        </p:blipFill>
        <p:spPr>
          <a:xfrm>
            <a:off x="250920" y="1230480"/>
            <a:ext cx="11788560" cy="2011320"/>
          </a:xfrm>
          <a:prstGeom prst="rect">
            <a:avLst/>
          </a:prstGeom>
          <a:ln w="0">
            <a:noFill/>
          </a:ln>
        </p:spPr>
      </p:pic>
      <p:pic>
        <p:nvPicPr>
          <p:cNvPr id="1266" name="Immagine 2" descr=""/>
          <p:cNvPicPr/>
          <p:nvPr/>
        </p:nvPicPr>
        <p:blipFill>
          <a:blip r:embed="rId2"/>
          <a:stretch/>
        </p:blipFill>
        <p:spPr>
          <a:xfrm>
            <a:off x="250920" y="4056120"/>
            <a:ext cx="11775960" cy="2616120"/>
          </a:xfrm>
          <a:prstGeom prst="rect">
            <a:avLst/>
          </a:prstGeom>
          <a:ln w="0">
            <a:noFill/>
          </a:ln>
        </p:spPr>
      </p:pic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704960" y="3268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Century Gothic"/>
              </a:rPr>
              <a:t>Nuova cartella Bioreuma </a:t>
            </a:r>
            <a:endParaRPr b="0" lang="en-US" sz="4000" spc="-1" strike="noStrike">
              <a:solidFill>
                <a:srgbClr val="178db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Immagine 1" descr=""/>
          <p:cNvPicPr/>
          <p:nvPr/>
        </p:nvPicPr>
        <p:blipFill>
          <a:blip r:embed="rId1"/>
          <a:stretch/>
        </p:blipFill>
        <p:spPr>
          <a:xfrm>
            <a:off x="289080" y="81000"/>
            <a:ext cx="1161396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ttangolo 3"/>
          <p:cNvSpPr/>
          <p:nvPr/>
        </p:nvSpPr>
        <p:spPr>
          <a:xfrm>
            <a:off x="2063880" y="428760"/>
            <a:ext cx="8135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oordinatore dello 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Gerolamo Bianchi, Direttore S.C. Reumatologia, Direttore Dipartimento Apparato Locomotore AS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ttangolo 4"/>
          <p:cNvSpPr/>
          <p:nvPr/>
        </p:nvSpPr>
        <p:spPr>
          <a:xfrm>
            <a:off x="2063880" y="1916280"/>
            <a:ext cx="8118360" cy="52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Elenco centri parteci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S.C. Reumatologia (Direttore: Prof. G. Bianchi), ASL3 “Genovese” (centro coordinator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Clinica di Medicina Interna e Immunologia Clinica (Direttore: Prof. F. Puppo), Ospedale Policlinico San Mar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Clinica Reumatologica (Direttore: Prof. M. Cutolo) Ospedale Policlinico San Mar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UOC Pediatria II - Reumatologia (Direttore: Prof. A Ravelli) Ist. Giannina Gasli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S.C. Medicina (Direttore: Dr. F. Martini), ASL1 “Imperies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S.S. Reumatologia (responsabile: A. Zaccaria), S.C. Medicina Interna 2 e Cure Intermedie (Direttore: Dr. L. Parodi), ASL2 “Savones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S.C. Medicina Sestri Levante (Direttore: Dr. M. Scudelletti), ASL4 “Chiavares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S.C. Medicina Rapallo (Direttore: Dr. R. Franceschini), ASL4 “Chiavares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S.C. Medicina Interna (Direttore: Dr. F. Orlandini), ASL5 “Spezzin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522440" y="184320"/>
            <a:ext cx="91440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EULAR ‘13: Recommendation 12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30320" y="2349360"/>
            <a:ext cx="841392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For established RA, most patients flare upon withdrawal of TNF inhibitor</a:t>
            </a:r>
            <a:r>
              <a:rPr b="0" lang="en-US" sz="1600" spc="-1" strike="noStrike" baseline="30000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For early RA, consider tapering bDMARDs if persistent stringent remission maintained after tapering corticosteroids</a:t>
            </a:r>
            <a:r>
              <a:rPr b="0" lang="en-US" sz="1600" spc="-1" strike="noStrike" baseline="30000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Slow tapering by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expanding interval between doses or reducing dose</a:t>
            </a:r>
            <a:r>
              <a:rPr b="0" lang="en-US" sz="1600" spc="-1" strike="noStrike" baseline="30000">
                <a:solidFill>
                  <a:srgbClr val="404040"/>
                </a:solidFill>
                <a:latin typeface="Century Gothic"/>
              </a:rPr>
              <a:t>2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Conventional synthetic DMARDs should be continued</a:t>
            </a:r>
            <a:r>
              <a:rPr b="0" lang="en-US" sz="1600" spc="-1" strike="noStrike" baseline="30000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Century Gothic"/>
              </a:rPr>
              <a:t>Evidence varies on likelihood of flare upon withdrawal of TNF inhibitor</a:t>
            </a:r>
            <a:r>
              <a:rPr b="0" lang="en-GB" sz="1600" spc="-1" strike="noStrike" baseline="30000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Century Gothic"/>
              </a:rPr>
              <a:t>Reinstitution of bDMARDs appears to allow the good outcome to be recaptured</a:t>
            </a:r>
            <a:r>
              <a:rPr b="0" lang="en-GB" sz="1600" spc="-1" strike="noStrike" baseline="30000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Century Gothic"/>
              </a:rPr>
              <a:t>More evidence for the tapering down of biologics is needed</a:t>
            </a:r>
            <a:r>
              <a:rPr b="0" lang="en-GB" sz="1600" spc="-1" strike="noStrike" baseline="30000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1981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4"/>
          <p:cNvSpPr/>
          <p:nvPr/>
        </p:nvSpPr>
        <p:spPr>
          <a:xfrm>
            <a:off x="1523880" y="1129680"/>
            <a:ext cx="9144000" cy="100584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358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Calibri"/>
                <a:ea typeface="MS PGothic"/>
              </a:rPr>
              <a:t>“</a:t>
            </a:r>
            <a:r>
              <a:rPr b="0" i="1" lang="en-GB" sz="2200" spc="-1" strike="noStrike">
                <a:solidFill>
                  <a:srgbClr val="ffffff"/>
                </a:solidFill>
                <a:latin typeface="Calibri"/>
                <a:ea typeface="MS PGothic"/>
              </a:rPr>
              <a:t>If a patient is in persistent remission, after having tapered glucocorticoids, one can consider </a:t>
            </a:r>
            <a:r>
              <a:rPr b="0" i="1" lang="en-GB" sz="2200" spc="-1" strike="noStrike">
                <a:solidFill>
                  <a:srgbClr val="ffff00"/>
                </a:solidFill>
                <a:latin typeface="Calibri"/>
                <a:ea typeface="MS PGothic"/>
              </a:rPr>
              <a:t>tapering</a:t>
            </a:r>
            <a:r>
              <a:rPr b="0" i="1" lang="en-GB" sz="2200" spc="-1" strike="noStrike" baseline="30000">
                <a:solidFill>
                  <a:srgbClr val="ffff00"/>
                </a:solidFill>
                <a:latin typeface="Calibri"/>
                <a:ea typeface="MS PGothic"/>
              </a:rPr>
              <a:t>*</a:t>
            </a:r>
            <a:r>
              <a:rPr b="0" i="1" lang="en-GB" sz="2200" spc="-1" strike="noStrike">
                <a:solidFill>
                  <a:srgbClr val="ffff00"/>
                </a:solidFill>
                <a:latin typeface="Calibri"/>
                <a:ea typeface="MS PGothic"/>
              </a:rPr>
              <a:t> biological DMARDs</a:t>
            </a:r>
            <a:r>
              <a:rPr b="0" i="1" lang="en-GB" sz="2200" spc="-1" strike="noStrike" baseline="30000">
                <a:solidFill>
                  <a:srgbClr val="ffff00"/>
                </a:solidFill>
                <a:latin typeface="Calibri"/>
                <a:ea typeface="MS PGothic"/>
              </a:rPr>
              <a:t>*</a:t>
            </a:r>
            <a:r>
              <a:rPr b="0" i="1" lang="en-GB" sz="2200" spc="-1" strike="noStrike">
                <a:solidFill>
                  <a:srgbClr val="ffffff"/>
                </a:solidFill>
                <a:latin typeface="Calibri"/>
                <a:ea typeface="MS PGothic"/>
              </a:rPr>
              <a:t>, especially if this treatment is combined with a conventional synthetic DMARD”</a:t>
            </a:r>
            <a:r>
              <a:rPr b="0" i="1" lang="en-GB" sz="2200" spc="-1" strike="noStrike" baseline="30000">
                <a:solidFill>
                  <a:srgbClr val="ffffff"/>
                </a:solidFill>
                <a:latin typeface="Calibri"/>
                <a:ea typeface="MS PGothic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0"/>
          <p:cNvSpPr/>
          <p:nvPr/>
        </p:nvSpPr>
        <p:spPr>
          <a:xfrm>
            <a:off x="1631880" y="6021360"/>
            <a:ext cx="867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MS PGothic"/>
              </a:rPr>
              <a:t>* Most data are available for TNF inhibitors, but it is assumed that dose reduction or interval expansion is also pertinent to biological agents with another mode of ac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MS PGothic"/>
              </a:rPr>
              <a:t>DMARD, disease-modifying antirheumatic drug; EMA, European Medical Agency; EULAR, European League against Rheumatism; FDA, Food and Drug Administration; MTX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MS PGothic"/>
              </a:rPr>
              <a:t>methotrexate; RA, rheumatoid arthritis; TNF, tumour necrosis facto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5"/>
          <p:cNvSpPr/>
          <p:nvPr/>
        </p:nvSpPr>
        <p:spPr>
          <a:xfrm>
            <a:off x="12436560" y="1049400"/>
            <a:ext cx="201924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Smolen 2013/p3/table1/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recommendation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6"/>
          <p:cNvSpPr/>
          <p:nvPr/>
        </p:nvSpPr>
        <p:spPr>
          <a:xfrm>
            <a:off x="12460320" y="2378160"/>
            <a:ext cx="20462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Smolen 2010/p966/table1/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6967080" y="6381720"/>
            <a:ext cx="35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1. Smolen JS, </a:t>
            </a:r>
            <a:r>
              <a:rPr b="0" i="1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et al. Ann Rheum Dis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2013; doi: 10.1136/annrheumdis-2013-20457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2. Smolen JS, </a:t>
            </a:r>
            <a:r>
              <a:rPr b="0" i="1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et al. 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  <a:ea typeface="MS PGothic"/>
              </a:rPr>
              <a:t>Ann Rheum Dis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MS PGothic"/>
              </a:rPr>
              <a:t>2010;69:964–9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12436560" y="3162240"/>
            <a:ext cx="20462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Smolen 2013 p10/col2/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18"/>
          <p:cNvSpPr/>
          <p:nvPr/>
        </p:nvSpPr>
        <p:spPr>
          <a:xfrm>
            <a:off x="12436560" y="3989520"/>
            <a:ext cx="20462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Smolen 2013 p11/col1/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12407760" y="5470560"/>
            <a:ext cx="20480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Smolen 2013 p11/col1/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12407760" y="4979880"/>
            <a:ext cx="20480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Smolen 2013 p11/col1/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1"/>
          <p:cNvSpPr/>
          <p:nvPr/>
        </p:nvSpPr>
        <p:spPr>
          <a:xfrm>
            <a:off x="12396960" y="4324320"/>
            <a:ext cx="20476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Smolen 2010 p969/col2/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2"/>
          <p:cNvSpPr/>
          <p:nvPr/>
        </p:nvSpPr>
        <p:spPr>
          <a:xfrm>
            <a:off x="12407760" y="4667400"/>
            <a:ext cx="20480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Smolen 2013 p11/col1/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ttangolo 1"/>
          <p:cNvSpPr/>
          <p:nvPr/>
        </p:nvSpPr>
        <p:spPr>
          <a:xfrm>
            <a:off x="7319880" y="638172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Smolen JS et Al. Ann Rheum Dis. 2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6" name="Immagine 1" descr=""/>
          <p:cNvPicPr/>
          <p:nvPr/>
        </p:nvPicPr>
        <p:blipFill>
          <a:blip r:embed="rId1"/>
          <a:stretch/>
        </p:blipFill>
        <p:spPr>
          <a:xfrm>
            <a:off x="1631880" y="189000"/>
            <a:ext cx="54086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7" name="Immagine 2" descr=""/>
          <p:cNvPicPr/>
          <p:nvPr/>
        </p:nvPicPr>
        <p:blipFill>
          <a:blip r:embed="rId2"/>
          <a:stretch/>
        </p:blipFill>
        <p:spPr>
          <a:xfrm>
            <a:off x="1703520" y="1484280"/>
            <a:ext cx="3456000" cy="49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08" name="Gruppo 6"/>
          <p:cNvGrpSpPr/>
          <p:nvPr/>
        </p:nvGrpSpPr>
        <p:grpSpPr>
          <a:xfrm>
            <a:off x="5303880" y="2529000"/>
            <a:ext cx="6789600" cy="2560680"/>
            <a:chOff x="5303880" y="2529000"/>
            <a:chExt cx="6789600" cy="2560680"/>
          </a:xfrm>
        </p:grpSpPr>
        <p:pic>
          <p:nvPicPr>
            <p:cNvPr id="1209" name="Immagine 3" descr=""/>
            <p:cNvPicPr/>
            <p:nvPr/>
          </p:nvPicPr>
          <p:blipFill>
            <a:blip r:embed="rId3"/>
            <a:stretch/>
          </p:blipFill>
          <p:spPr>
            <a:xfrm>
              <a:off x="5303880" y="3129840"/>
              <a:ext cx="6789600" cy="1959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10" name="Immagine 5" descr=""/>
            <p:cNvPicPr/>
            <p:nvPr/>
          </p:nvPicPr>
          <p:blipFill>
            <a:blip r:embed="rId4"/>
            <a:stretch/>
          </p:blipFill>
          <p:spPr>
            <a:xfrm>
              <a:off x="5304240" y="2529000"/>
              <a:ext cx="6789240" cy="600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523880" y="11592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1b4e6"/>
                </a:solidFill>
                <a:latin typeface="Century Gothic"/>
              </a:rPr>
              <a:t>Perché la riduzione del dosaggio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847520" y="1269720"/>
            <a:ext cx="95266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Ridurre i rischi infettivi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Ridurre il discomfort della somministrazione sc o ev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Ridurre i costi (circa </a:t>
            </a:r>
            <a:r>
              <a:rPr b="1" lang="it-IT" sz="2400" spc="-1" strike="noStrike">
                <a:solidFill>
                  <a:srgbClr val="002060"/>
                </a:solidFill>
                <a:latin typeface="Century Gothic"/>
              </a:rPr>
              <a:t>20 %</a:t>
            </a: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 di risparmio annuo rispetto alla dose strandard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Identificare la dose minima efficac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Ottenere il massimo beneficio clinic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Minimizzare i rischi jatrogeni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Ridurre la spesa sanitari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3" name="Freccia in giù 5"/>
          <p:cNvSpPr/>
          <p:nvPr/>
        </p:nvSpPr>
        <p:spPr>
          <a:xfrm>
            <a:off x="5573880" y="3206880"/>
            <a:ext cx="765000" cy="1079280"/>
          </a:xfrm>
          <a:prstGeom prst="down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ffff00"/>
              </a:gs>
              <a:gs pos="100000">
                <a:srgbClr val="c1e8f7"/>
              </a:gs>
            </a:gsLst>
            <a:lin ang="162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01420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9999"/>
                </a:solidFill>
                <a:latin typeface="Century Gothic"/>
              </a:rPr>
              <a:t>Dati della letteratura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009520" y="1101240"/>
            <a:ext cx="88930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&gt; 1/3 dei pz con AR in LDA o remissione riducono bDMARDs senza andare incontro a ricadut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Kuijper TM et al. J Rheumatol. 2015; 42: 2012-22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982800" indent="-196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In caso di riacutizzazione della malattia, al ripristino della terapia con bDMARD si torna allo stato clinico precedent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Schett G et al: Ann. Rheum. Dis. 2016; 75: 1428-37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1" marL="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Ibraim F et al. Rheumatology. 2017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Gothic"/>
              </a:rPr>
              <a:t>Non inferiorità rispetto alla prosecuzione della dose pien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4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4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4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400" spc="-1" strike="noStrike">
                <a:solidFill>
                  <a:srgbClr val="c9c960"/>
                </a:solidFill>
                <a:latin typeface="Century Gothic"/>
              </a:rPr>
              <a:t>	</a:t>
            </a:r>
            <a:r>
              <a:rPr b="0" lang="it-IT" sz="1400" spc="-1" strike="noStrike">
                <a:solidFill>
                  <a:srgbClr val="3366ff"/>
                </a:solidFill>
                <a:latin typeface="Century Gothic"/>
              </a:rPr>
              <a:t>Van Herwaarden N et al. Cochrane Databale; 2014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294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r>
              <a:rPr b="0" lang="it-IT" sz="1200" spc="-1" strike="noStrike">
                <a:solidFill>
                  <a:srgbClr val="3366ff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Immagine 4" descr=""/>
          <p:cNvPicPr/>
          <p:nvPr/>
        </p:nvPicPr>
        <p:blipFill>
          <a:blip r:embed="rId1"/>
          <a:stretch/>
        </p:blipFill>
        <p:spPr>
          <a:xfrm>
            <a:off x="1982880" y="709560"/>
            <a:ext cx="8210520" cy="600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7" name="Immagine 5" descr=""/>
          <p:cNvPicPr/>
          <p:nvPr/>
        </p:nvPicPr>
        <p:blipFill>
          <a:blip r:embed="rId2"/>
          <a:stretch/>
        </p:blipFill>
        <p:spPr>
          <a:xfrm>
            <a:off x="2028960" y="139680"/>
            <a:ext cx="816444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Immagine 3" descr=""/>
          <p:cNvPicPr/>
          <p:nvPr/>
        </p:nvPicPr>
        <p:blipFill>
          <a:blip r:embed="rId1"/>
          <a:stretch/>
        </p:blipFill>
        <p:spPr>
          <a:xfrm>
            <a:off x="2028960" y="220680"/>
            <a:ext cx="8164440" cy="40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9" name="Immagine 4" descr=""/>
          <p:cNvPicPr/>
          <p:nvPr/>
        </p:nvPicPr>
        <p:blipFill>
          <a:blip r:embed="rId2"/>
          <a:stretch/>
        </p:blipFill>
        <p:spPr>
          <a:xfrm>
            <a:off x="1916280" y="1204920"/>
            <a:ext cx="840240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CasellaDiTesto 5"/>
          <p:cNvSpPr/>
          <p:nvPr/>
        </p:nvSpPr>
        <p:spPr>
          <a:xfrm>
            <a:off x="1523880" y="149400"/>
            <a:ext cx="9144000" cy="459720"/>
          </a:xfrm>
          <a:prstGeom prst="rect">
            <a:avLst/>
          </a:prstGeom>
          <a:solidFill>
            <a:srgbClr val="d6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SL3 – Costo totale (reale e standard) e differenza -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CasellaDiTesto 5"/>
          <p:cNvSpPr/>
          <p:nvPr/>
        </p:nvSpPr>
        <p:spPr>
          <a:xfrm>
            <a:off x="1523880" y="3357720"/>
            <a:ext cx="9144000" cy="459720"/>
          </a:xfrm>
          <a:prstGeom prst="rect">
            <a:avLst/>
          </a:prstGeom>
          <a:solidFill>
            <a:srgbClr val="e0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SL3 – Costo medio farmaco (reale e standard) e differenza -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Picture 11" descr=""/>
          <p:cNvPicPr/>
          <p:nvPr/>
        </p:nvPicPr>
        <p:blipFill>
          <a:blip r:embed="rId1"/>
          <a:stretch/>
        </p:blipFill>
        <p:spPr>
          <a:xfrm>
            <a:off x="2208240" y="692280"/>
            <a:ext cx="8020080" cy="256212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2" descr=""/>
          <p:cNvPicPr/>
          <p:nvPr/>
        </p:nvPicPr>
        <p:blipFill>
          <a:blip r:embed="rId2"/>
          <a:stretch/>
        </p:blipFill>
        <p:spPr>
          <a:xfrm>
            <a:off x="2208240" y="3860640"/>
            <a:ext cx="7920000" cy="2737080"/>
          </a:xfrm>
          <a:prstGeom prst="rect">
            <a:avLst/>
          </a:prstGeom>
          <a:ln w="0">
            <a:noFill/>
          </a:ln>
        </p:spPr>
      </p:pic>
      <p:sp>
        <p:nvSpPr>
          <p:cNvPr id="1224" name="CasellaDiTesto 5"/>
          <p:cNvSpPr/>
          <p:nvPr/>
        </p:nvSpPr>
        <p:spPr>
          <a:xfrm>
            <a:off x="10549080" y="2467080"/>
            <a:ext cx="1504800" cy="368280"/>
          </a:xfrm>
          <a:prstGeom prst="rect">
            <a:avLst/>
          </a:prstGeom>
          <a:noFill/>
          <a:ln w="9360">
            <a:solidFill>
              <a:srgbClr val="bf1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2 pz AS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30T13:28:12Z</dcterms:created>
  <dc:creator>Locaputo Antonia</dc:creator>
  <dc:description/>
  <dc:language>en-US</dc:language>
  <cp:lastModifiedBy>Locaputo Antonia</cp:lastModifiedBy>
  <dcterms:modified xsi:type="dcterms:W3CDTF">2018-10-03T11:01:00Z</dcterms:modified>
  <cp:revision>78</cp:revision>
  <dc:subject/>
  <dc:title>Presentazione standard di PowerPoint</dc:title>
</cp:coreProperties>
</file>